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FA09-40B9-4D1D-8BDC-7C51D0C55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AF4E-B71F-45A8-AF58-A182F7717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A125-471D-40AC-A80B-19C981CDD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90D2-BC9B-420F-BD0F-02C805CA7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E358-DAE9-4743-A64B-B380B4368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B17E-0037-4D2B-B3E9-580BAA8BC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09AB-0AC2-4A74-84BE-F0A1F1495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4A30-87A9-444E-8402-F3139BE30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26F9-A5FC-406D-B68B-FAF165E55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172D-1E39-422D-9915-0604AD44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F713-AE52-4F7F-A804-FE4BA0A7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14DD-0CE0-4795-BE10-24DD7611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D6CBE-EB9B-41F0-BFED-1A052C4BFF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hyperlink" Target="http://web.mit.edu/invent/iow/johnson.html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781680" y="4978440"/>
            <a:ext cx="236232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day, January 07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#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80880" y="533520"/>
            <a:ext cx="838224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81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upe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81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81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oake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81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391520" y="1447920"/>
            <a:ext cx="1427040" cy="1665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666880" y="4648320"/>
            <a:ext cx="3230640" cy="1501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85800" y="1676520"/>
            <a:ext cx="2293920" cy="10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81240" cy="3276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Lonnie"/>
          <p:cNvPicPr/>
          <p:nvPr/>
        </p:nvPicPr>
        <p:blipFill>
          <a:blip r:embed="rId2"/>
          <a:stretch/>
        </p:blipFill>
        <p:spPr>
          <a:xfrm>
            <a:off x="5394240" y="0"/>
            <a:ext cx="3749760" cy="4952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5803920"/>
            <a:ext cx="87631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emelson-mit program,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Lonnie Johnson, January 14, 20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eb.mit.edu/invent/iow/johnso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Super Soak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ots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easy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Lonnie John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’s been inventing for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won an inventing competition in high scho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n an award in nuclear engineer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was in the Air for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trained to be an astronau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helped with the mars r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invented a lot at his 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has his own compan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8:31:28Z</dcterms:created>
  <dc:creator>install</dc:creator>
  <dc:description/>
  <dc:language>en-US</dc:language>
  <cp:lastModifiedBy>install</cp:lastModifiedBy>
  <dcterms:modified xsi:type="dcterms:W3CDTF">2011-01-14T17:11:56Z</dcterms:modified>
  <cp:revision>7</cp:revision>
  <dc:subject/>
  <dc:title>Slide 1</dc:title>
</cp:coreProperties>
</file>